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F42E-6696-46FA-9B34-75609A66D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96C-2890-4C29-984E-F0FA04233D0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1513-D701-407F-A539-1FD24CBDEB3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EF02-8440-46ED-BA13-950DB823A5D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85DC-9A27-435C-A00C-425108EA551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D10-9581-438F-ACC9-22AECA85E8A7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9909-771A-497E-9B56-BF32A6BE0E9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447B-698A-4666-911E-8C7B0B8BF1E4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73B8-A979-4C92-A91B-8593218ED3B8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2B5B-609D-4A22-83B0-FE0084B4C30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419F-F879-41B5-8917-2EDB0DFBD9C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91ED-6CB5-4495-ABBB-DA9709F8D0DD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B1D1-29D6-41F6-88A1-25C00F45D64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1FDC-DEAD-4749-BEFB-1BDB4D780AF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837A-549A-484B-BA2A-605074215861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19F6-4A08-4A31-91FE-29D4413D62B3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5E0F-7BE4-4C88-B64A-9B1AE73F8E3A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EF90-F34A-4739-B046-64A735180F6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7826-8DC5-471C-BCE1-93176E144436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CAD-D764-4D59-BB71-2FB3E793D678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2421-7561-444F-B236-5D495B1ED4D0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1B9C-02BB-4FD1-9EDC-F90102260FA2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5C8-6B09-44B8-A360-809CF037945C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2A45-A5FF-455B-837D-1B2A62686D03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D31-214A-4CA4-8CC9-616940EF013B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D8F9-77AF-4FA0-BC95-8AB2964A6DF8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1F84-024C-4D19-B10D-A64465A21509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BA69-EDBA-4B49-A556-2E20FF57697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3F43-336A-48BB-B47F-6F8134EE5225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9833-DCCC-4087-A364-FDC164C4195E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69A-946F-49FE-B414-9B8332629401}" type="slidenum">
              <a:rPr b="0" lang="en-US" sz="12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8AA-C157-4742-90D2-59094AD3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1EF-89A8-41EE-AF25-0FD8BE10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B1C-89F1-4C2C-BD7F-5309590C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356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1440" y="160020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0020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356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71440" y="3964320"/>
            <a:ext cx="193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5D1-234D-4AC7-BAE0-1CED4F1B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B33-8AEA-4A99-8853-73C3D040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3A3-BD87-4ED0-B721-CDEC3A8F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4F86-05E7-49AA-95D3-55D250A2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256-ED37-41F6-B939-54812A97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240" y="7596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3D0-67F1-4BF6-B4D7-D0CA9CC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9F9-5793-4F2F-BD3D-9F3669C8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040" y="396432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679-2F0D-4D5A-AA7B-1497503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040" y="1600200"/>
            <a:ext cx="2937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00200" y="3964320"/>
            <a:ext cx="6019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50D-8B9C-4825-A50A-7D825CD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406b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6b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C3BF-CF39-405A-943C-0D1CA9A6EF68}" type="slidenum">
              <a:rPr b="0" lang="en-US" sz="1400" spc="-1" strike="noStrike">
                <a:solidFill>
                  <a:srgbClr val="406b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Bib </a:t>
            </a:r>
            <a:br>
              <a:rPr sz="4400"/>
            </a:b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Helps you use your “noodle”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ing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2 Edit_notes_colors.png"/>
          <p:cNvPicPr/>
          <p:nvPr/>
        </p:nvPicPr>
        <p:blipFill>
          <a:blip r:embed="rId1"/>
          <a:stretch/>
        </p:blipFill>
        <p:spPr>
          <a:xfrm>
            <a:off x="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9"/>
          <p:cNvSpPr/>
          <p:nvPr/>
        </p:nvSpPr>
        <p:spPr>
          <a:xfrm>
            <a:off x="7621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nnotating helps you understan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2 Edit_notes_paraphrase.png"/>
          <p:cNvPicPr/>
          <p:nvPr/>
        </p:nvPicPr>
        <p:blipFill>
          <a:blip r:embed="rId1"/>
          <a:stretch/>
        </p:blipFill>
        <p:spPr>
          <a:xfrm>
            <a:off x="117360" y="0"/>
            <a:ext cx="8909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3200400" y="4343400"/>
            <a:ext cx="5715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xplain it to yourself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4267080" y="5105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*Using words that you understand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57200" y="2438280"/>
            <a:ext cx="99072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2 Edit_notes_my ideas.png"/>
          <p:cNvPicPr/>
          <p:nvPr/>
        </p:nvPicPr>
        <p:blipFill>
          <a:blip r:embed="rId1"/>
          <a:stretch/>
        </p:blipFill>
        <p:spPr>
          <a:xfrm>
            <a:off x="152280" y="0"/>
            <a:ext cx="88743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676520" y="19810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do you think?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105520" y="37479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 wonder…?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H="1">
            <a:off x="3733920" y="39625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562720" y="4114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 do” next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4266720" y="43434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80880" y="2362320"/>
            <a:ext cx="9907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2 Edit_title.png"/>
          <p:cNvPicPr/>
          <p:nvPr/>
        </p:nvPicPr>
        <p:blipFill>
          <a:blip r:embed="rId1"/>
          <a:stretch/>
        </p:blipFill>
        <p:spPr>
          <a:xfrm>
            <a:off x="147600" y="0"/>
            <a:ext cx="88488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457200" y="533520"/>
            <a:ext cx="259092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75248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Add the main idea last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2 Edit_tags.png"/>
          <p:cNvPicPr/>
          <p:nvPr/>
        </p:nvPicPr>
        <p:blipFill>
          <a:blip r:embed="rId1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590920" y="15228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Add tags now…or later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57200" y="5943600"/>
            <a:ext cx="8153280" cy="457200"/>
          </a:xfrm>
          <a:prstGeom prst="rect">
            <a:avLst/>
          </a:prstGeom>
          <a:solidFill>
            <a:srgbClr val="d1de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It’s easier to add tags when you know more.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1828800" y="685800"/>
            <a:ext cx="26668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3 Source_notes_linked.png"/>
          <p:cNvPicPr/>
          <p:nvPr/>
        </p:nvPicPr>
        <p:blipFill>
          <a:blip r:embed="rId1"/>
          <a:stretch/>
        </p:blipFill>
        <p:spPr>
          <a:xfrm>
            <a:off x="128520" y="0"/>
            <a:ext cx="88869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990720" y="9144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 can always go back to the sourc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09480" y="2286000"/>
            <a:ext cx="7772400" cy="6858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457200" y="1447920"/>
            <a:ext cx="838080" cy="45720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267080" y="50292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ometimes rereading clears up question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2 Tabletop_notes_waiting.png"/>
          <p:cNvPicPr/>
          <p:nvPr/>
        </p:nvPicPr>
        <p:blipFill>
          <a:blip r:embed="rId1"/>
          <a:stretch/>
        </p:blipFill>
        <p:spPr>
          <a:xfrm>
            <a:off x="76320" y="0"/>
            <a:ext cx="8886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676520" y="33526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Use your tabletop to organiz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04920" y="4876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Your notes are waiting her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 flipV="1">
            <a:off x="685800" y="3809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152280" y="1219320"/>
            <a:ext cx="190512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3 Tabletop_notes_organized.png"/>
          <p:cNvPicPr/>
          <p:nvPr/>
        </p:nvPicPr>
        <p:blipFill>
          <a:blip r:embed="rId1"/>
          <a:stretch/>
        </p:blipFill>
        <p:spPr>
          <a:xfrm>
            <a:off x="152280" y="0"/>
            <a:ext cx="88632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5"/>
          <p:cNvSpPr/>
          <p:nvPr/>
        </p:nvSpPr>
        <p:spPr>
          <a:xfrm>
            <a:off x="762120" y="3733920"/>
            <a:ext cx="2209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62120" y="51055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Sort notes however you like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37160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rag not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4 Tabletop_notes_piles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Oval 4"/>
          <p:cNvSpPr/>
          <p:nvPr/>
        </p:nvSpPr>
        <p:spPr>
          <a:xfrm>
            <a:off x="4191120" y="2057400"/>
            <a:ext cx="1523880" cy="1523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343400" y="3657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ake pil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09480" y="51055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Group notes that you feel belong together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4 Tabletop_notes_code.png"/>
          <p:cNvPicPr/>
          <p:nvPr/>
        </p:nvPicPr>
        <p:blipFill>
          <a:blip r:embed="rId1"/>
          <a:stretch/>
        </p:blipFill>
        <p:spPr>
          <a:xfrm>
            <a:off x="136440" y="0"/>
            <a:ext cx="88711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609480" y="51055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abel your notes with visual cu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400800" y="3200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 reminders, colors and tag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is NoodleBib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705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Create, store, organize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a bibliography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Take notes online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Organize your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evelop your own ideas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Think about what’s important </a:t>
            </a:r>
            <a:endParaRPr b="0" lang="en-US" sz="30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Create [essay, speech, product…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5 Tabletop_notes_outline.png"/>
          <p:cNvPicPr/>
          <p:nvPr/>
        </p:nvPicPr>
        <p:blipFill>
          <a:blip r:embed="rId1"/>
          <a:stretch/>
        </p:blipFill>
        <p:spPr>
          <a:xfrm>
            <a:off x="109440" y="0"/>
            <a:ext cx="89251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5410080" y="1447920"/>
            <a:ext cx="2667240" cy="2361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09480" y="43434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Build your outline on-the-fly…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5 Tabletop_notes_preoutline.png"/>
          <p:cNvPicPr/>
          <p:nvPr/>
        </p:nvPicPr>
        <p:blipFill>
          <a:blip r:embed="rId1"/>
          <a:stretch/>
        </p:blipFill>
        <p:spPr>
          <a:xfrm>
            <a:off x="131760" y="0"/>
            <a:ext cx="88804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Oval 5"/>
          <p:cNvSpPr/>
          <p:nvPr/>
        </p:nvSpPr>
        <p:spPr>
          <a:xfrm>
            <a:off x="5410080" y="1447920"/>
            <a:ext cx="2667240" cy="2361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09480" y="42670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or build it before you take note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5 Tabletop_notes_outline_tags.png"/>
          <p:cNvPicPr/>
          <p:nvPr/>
        </p:nvPicPr>
        <p:blipFill>
          <a:blip r:embed="rId1"/>
          <a:stretch/>
        </p:blipFill>
        <p:spPr>
          <a:xfrm>
            <a:off x="147600" y="0"/>
            <a:ext cx="8848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6019920" y="3200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rag notes and piles into your outlin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800600" y="2438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Get help along the way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6705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Get feedback, make changes 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Print out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-mail [source list, notes]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Fill in [class name] to share your list with [Teacher’s name] to get tips and comments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Enough information?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When you think your done, overview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Can I add </a:t>
            </a:r>
            <a:r>
              <a:rPr b="0" i="1" lang="en-US" sz="2600" spc="-1" strike="noStrike">
                <a:solidFill>
                  <a:srgbClr val="406b8c"/>
                </a:solidFill>
                <a:latin typeface="Arial"/>
              </a:rPr>
              <a:t>more tags </a:t>
            </a: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now that I know more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Label details, themes, concept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Other ways to order my ideas?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Reorder by searching on 2-3 tags at onc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ny loose ends?</a:t>
            </a:r>
            <a:br>
              <a:rPr sz="2600"/>
            </a:b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6b8c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6b8c"/>
                </a:solidFill>
                <a:latin typeface="Arial"/>
              </a:rPr>
              <a:t>Are there types of sources I missed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Use           button to see the type and range of sources you used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  <p:pic>
        <p:nvPicPr>
          <p:cNvPr id="135" name="Picture 3" descr="6 Analysis_button.png"/>
          <p:cNvPicPr/>
          <p:nvPr/>
        </p:nvPicPr>
        <p:blipFill>
          <a:blip r:embed="rId1"/>
          <a:stretch/>
        </p:blipFill>
        <p:spPr>
          <a:xfrm>
            <a:off x="2133720" y="5848200"/>
            <a:ext cx="723960" cy="2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533600" cy="140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Organizing information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Create subtopics and outlin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notes have similar titles or topic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Pile them together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Add them to your outline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a202"/>
                </a:solidFill>
                <a:latin typeface="Arial"/>
              </a:rPr>
              <a:t>Play with the order, be curious!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if I make new combinations of notes? 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Search by one or more tags to find common ideas among notes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What other ways can I order my outline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Do new grouping suggest new ways to analyze what I know?  New ideas?  New questions?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followup2"/>
          <p:cNvPicPr/>
          <p:nvPr/>
        </p:nvPicPr>
        <p:blipFill>
          <a:blip r:embed="rId1"/>
          <a:stretch/>
        </p:blipFill>
        <p:spPr>
          <a:xfrm>
            <a:off x="0" y="2286000"/>
            <a:ext cx="8555040" cy="440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Don’t forget to follow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your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ideas</a:t>
            </a:r>
            <a:r>
              <a:rPr b="0" lang="en-US" sz="3000" spc="-1" strike="noStrike">
                <a:solidFill>
                  <a:srgbClr val="406b8c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2a475c"/>
              </a:solidFill>
              <a:latin typeface="Arial"/>
            </a:endParaRPr>
          </a:p>
        </p:txBody>
      </p:sp>
      <p:pic>
        <p:nvPicPr>
          <p:cNvPr id="141" name="Picture 4" descr="followup1"/>
          <p:cNvPicPr/>
          <p:nvPr/>
        </p:nvPicPr>
        <p:blipFill>
          <a:blip r:embed="rId2"/>
          <a:stretch/>
        </p:blipFill>
        <p:spPr>
          <a:xfrm>
            <a:off x="533520" y="1295280"/>
            <a:ext cx="8516880" cy="3267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609480" y="3352680"/>
            <a:ext cx="6858000" cy="114300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04920" y="5334120"/>
            <a:ext cx="7696080" cy="10666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1 Source List.png"/>
          <p:cNvPicPr/>
          <p:nvPr/>
        </p:nvPicPr>
        <p:blipFill>
          <a:blip r:embed="rId1"/>
          <a:stretch/>
        </p:blipFill>
        <p:spPr>
          <a:xfrm>
            <a:off x="144360" y="0"/>
            <a:ext cx="88552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90560" y="3045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Easy to add more sources </a:t>
            </a:r>
            <a:br>
              <a:rPr sz="3200"/>
            </a:b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if you need to!</a:t>
            </a:r>
            <a:endParaRPr b="0" lang="en-US" sz="3200" spc="-1" strike="noStrike">
              <a:solidFill>
                <a:srgbClr val="2a475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What students say…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406b8c"/>
                </a:solidFill>
                <a:latin typeface="Arial"/>
              </a:rPr>
              <a:t>love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 your site! Thank you so much. My senior paper would be taking me about 10 times as long!”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You guys are amazing!! I shared the site with my whole English class. Your bibliography program is incredible! It made making my bibliography faster, easier, and even fun!”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406b8c"/>
                </a:solidFill>
                <a:latin typeface="Arial"/>
              </a:rPr>
              <a:t>I overheard a young man whining to another student about a research assignment. The second student said, ‘Oh get over it, just use NoodleTools.’” (reported by librarian)</a:t>
            </a:r>
            <a:endParaRPr b="0" lang="en-US" sz="2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Use your “noodle”!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a202"/>
                </a:solidFill>
                <a:latin typeface="Arial"/>
              </a:rPr>
              <a:t>Stay organized, feel successful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Access your work from home and school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afeguard against accidental plagiarism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pend your time thinking and creating (not on commas)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Get curious, feel creative…have fun!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itations + notes =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a202"/>
                </a:solidFill>
                <a:latin typeface="Arial"/>
              </a:rPr>
              <a:t>Work you’ll be proud of!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reate an accurate, relevant [source list, bibliography]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Correct style, punctuation, format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Prompts you to check for quality, bala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Take good notes, keep them organized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ources stay linked to notes 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Easy to quote and reference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Summarize, evaluate, question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6b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6b8c"/>
                </a:solidFill>
                <a:latin typeface="Arial"/>
              </a:rPr>
              <a:t>Organize ideas thoughtfully before writing</a:t>
            </a:r>
            <a:endParaRPr b="0" lang="en-US" sz="2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a475c"/>
                </a:solidFill>
                <a:latin typeface="Arial"/>
              </a:rPr>
              <a:t>Noodle” time…start thinking!</a:t>
            </a:r>
            <a:endParaRPr b="0" lang="en-US" sz="44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6b8c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486400" y="59436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or more teaching ideas: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support [at] noodletools [dot] com</a:t>
            </a:r>
            <a:endParaRPr b="0" lang="en-US" sz="14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1 Source List.png"/>
          <p:cNvPicPr/>
          <p:nvPr/>
        </p:nvPicPr>
        <p:blipFill>
          <a:blip r:embed="rId1"/>
          <a:stretch/>
        </p:blipFill>
        <p:spPr>
          <a:xfrm>
            <a:off x="152280" y="0"/>
            <a:ext cx="8856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124080" y="2286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List view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6172200" y="1219320"/>
            <a:ext cx="1523880" cy="5410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3 Source_notes_linked.png"/>
          <p:cNvPicPr/>
          <p:nvPr/>
        </p:nvPicPr>
        <p:blipFill>
          <a:blip r:embed="rId1"/>
          <a:stretch/>
        </p:blipFill>
        <p:spPr>
          <a:xfrm>
            <a:off x="128520" y="0"/>
            <a:ext cx="8886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5105520" y="15238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867280" y="2438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733920" y="4876920"/>
            <a:ext cx="472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r notes and sources stay linked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2" name="Double Bracket 7"/>
          <p:cNvSpPr/>
          <p:nvPr/>
        </p:nvSpPr>
        <p:spPr>
          <a:xfrm>
            <a:off x="304920" y="1371600"/>
            <a:ext cx="8381880" cy="480060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33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75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Three-part notes</a:t>
            </a:r>
            <a:endParaRPr b="0" lang="en-US" sz="3600" spc="-1" strike="noStrike">
              <a:solidFill>
                <a:srgbClr val="2a47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4ea20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a202"/>
                </a:solidFill>
                <a:latin typeface="Arial"/>
              </a:rPr>
              <a:t>Cut-and-paste </a:t>
            </a: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Capture author’s words, image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Get quotes and attribution right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Mark-up the quote to understand the author’s idea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4ea202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a202"/>
                </a:solidFill>
                <a:latin typeface="Arial"/>
              </a:rPr>
              <a:t>Paraphrase or summarize</a:t>
            </a: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 Explain it to yourself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Tag concepts and fact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Add reminders and task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4ea20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a202"/>
                </a:solidFill>
                <a:latin typeface="Arial"/>
              </a:rPr>
              <a:t>My ideas</a:t>
            </a: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 Prompts for original thinking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Analyze how it fits your research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Ask questions, evaluate ideas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406b8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6b8c"/>
                </a:solidFill>
                <a:latin typeface="Arial"/>
              </a:rPr>
              <a:t>List “to do” plan</a:t>
            </a:r>
            <a:endParaRPr b="0" lang="en-US" sz="2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 Edit_notes_words.png"/>
          <p:cNvPicPr/>
          <p:nvPr/>
        </p:nvPicPr>
        <p:blipFill>
          <a:blip r:embed="rId1"/>
          <a:stretch/>
        </p:blipFill>
        <p:spPr>
          <a:xfrm>
            <a:off x="1522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9"/>
          <p:cNvSpPr/>
          <p:nvPr/>
        </p:nvSpPr>
        <p:spPr>
          <a:xfrm flipH="1">
            <a:off x="2361960" y="3200400"/>
            <a:ext cx="9903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22860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75c"/>
                </a:solidFill>
                <a:latin typeface="Arial"/>
              </a:rPr>
              <a:t>Cut-and-paste first</a:t>
            </a:r>
            <a:endParaRPr b="0" lang="en-US" sz="36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362320" y="2895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image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029200" y="4281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uthor’s word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3733920" y="4572000"/>
            <a:ext cx="12952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533520" y="3200400"/>
            <a:ext cx="11430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1 Edit_notes_words.png"/>
          <p:cNvPicPr/>
          <p:nvPr/>
        </p:nvPicPr>
        <p:blipFill>
          <a:blip r:embed="rId1"/>
          <a:stretch/>
        </p:blipFill>
        <p:spPr>
          <a:xfrm>
            <a:off x="139680" y="0"/>
            <a:ext cx="88646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1219320" y="1522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You’ll get quotes and attribution right!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2 Edit_notes_colors.png"/>
          <p:cNvPicPr/>
          <p:nvPr/>
        </p:nvPicPr>
        <p:blipFill>
          <a:blip r:embed="rId1"/>
          <a:stretch/>
        </p:blipFill>
        <p:spPr>
          <a:xfrm>
            <a:off x="0" y="0"/>
            <a:ext cx="8896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143000" y="-76320"/>
            <a:ext cx="7620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75c"/>
                </a:solidFill>
                <a:latin typeface="Arial"/>
              </a:rPr>
              <a:t>Reread and color-code information</a:t>
            </a:r>
            <a:endParaRPr b="0" lang="en-US" sz="32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257800" y="5181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ed for problems 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H="1" flipV="1">
            <a:off x="2819160" y="4647960"/>
            <a:ext cx="2438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10080" y="46594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66"/>
                </a:solidFill>
                <a:latin typeface="Arial"/>
              </a:rPr>
              <a:t>Green for statistic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H="1">
            <a:off x="4572000" y="4876920"/>
            <a:ext cx="83808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133720" y="1995480"/>
            <a:ext cx="2286000" cy="3682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ighlight main ideas</a:t>
            </a:r>
            <a:endParaRPr b="0" lang="en-US" sz="1800" spc="-1" strike="noStrike">
              <a:solidFill>
                <a:srgbClr val="406b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04:27:40Z</dcterms:created>
  <dc:creator>admin</dc:creator>
  <dc:description/>
  <dc:language>en-US</dc:language>
  <cp:lastModifiedBy>admin</cp:lastModifiedBy>
  <dcterms:modified xsi:type="dcterms:W3CDTF">2009-07-28T02:32:43Z</dcterms:modified>
  <cp:revision>87</cp:revision>
  <dc:subject/>
  <dc:title>Slide 1</dc:title>
</cp:coreProperties>
</file>